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typ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8559-F704-4CA4-96B3-C99B2C6B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2267-3A3C-4143-9E31-A173E5C1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4CC4-9484-4C6A-B1DC-BF90DD47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03075-478B-48BF-8743-85B7043D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C945-445B-457F-A5C7-9D04913D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5DEC-7C5B-470C-98BA-DC33D18D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BDB2-A735-476D-91F8-2D07D0F4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11E1-6C83-48AC-8864-5980652C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6216-5FD7-4B4E-B115-470D5375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00C9-C49A-46A5-836B-ADB96DB1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2F95-D9F7-45F1-B1E9-D8EF766D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C4F1-1D1D-4022-8167-10F61947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680F-0DDF-4B11-B018-518C8276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751F-4791-473D-A4B7-8B54D4C7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8239-A327-4C0C-BBBC-039708D4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AFD3-9BF6-4FDD-B732-657AAF60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5669-FD3E-4D5D-8437-CD448725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499D7-BCC3-42B6-8623-8AE94C40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C090-FDD2-4FD1-8C05-C4075D43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6C7E-B484-4972-A02D-82837344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DFB0-D41E-4ED6-A0C6-BFCCDEDE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529EF-82F9-4CE2-BA9E-939B2DEB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B7AEC-7AB0-4E0D-82D1-00881251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F59E8-1799-4462-BBF9-9DD5D47A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5AD9-EAEC-472C-B114-D840629DA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F0A3-2943-4525-88EC-2D87D011CD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an example of a polyalphabetic cipher where the substitution pattern v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, a plaintext “e” may be replaced by a ciphertext “p” one time and a ciphertext “w”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genere cipher does this using a Vigener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723D1-3AC4-461B-93F3-0D1201EDAD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98116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ble lists the ke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and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419640" y="1409760"/>
            <a:ext cx="5505120" cy="5277240"/>
            <a:chOff x="3419640" y="1409760"/>
            <a:chExt cx="5505120" cy="5277240"/>
          </a:xfrm>
        </p:grpSpPr>
        <p:sp>
          <p:nvSpPr>
            <p:cNvPr id="117" name=""/>
            <p:cNvSpPr/>
            <p:nvPr/>
          </p:nvSpPr>
          <p:spPr>
            <a:xfrm>
              <a:off x="3419640" y="1409760"/>
              <a:ext cx="5505120" cy="51814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09720" y="1482480"/>
              <a:ext cx="5209920" cy="52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k l m n o p q r s t u v w x y z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c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l m n o p q r s t u v w x y z a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m n o p q r s t u v w x y z a b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n o p q r s t u v w x y z a b c 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o p q r s t u v w x y z a b c d 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p q r s t u v w x y z a b c d e 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q r s t u v w x y z a b c d e f 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r s t u v w x y z a b c d e f g 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s t u v w x y z a b c d e f g h 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t u v w x y z a b c d e f g h i j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u v w x y z a b c d e f g h i j 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v w x y z a b c d e f g h i j k 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w x y z a b c d e f g h i j k l 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x y z a b c d e f g h i j k l m 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y z a b c d e f g h i j k l m n 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z a b c d e f g h i j k l m n o 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a b c d e f g h i j k l m n o p q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b c d e f g h i j k l m n o p q 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c d e f g h i j k l m n o p q r 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d e f g h i j k l m n o p q r s 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v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v w x y z a b c d e f g h i j k l m n o p q r s t 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w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w x y z a b c d e f g h i j k l m n o p q r s t u v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x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x y z a b c d e f g h i j k l m n o p q r s t u v 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y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y z a b c d e f g h i j k l m n o p q r s t u v w x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z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z a b c d e f g h i j k l m n o p q r s t u v w x 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B5C30-9EEC-4E3D-88A9-56B315DDE4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615680"/>
            <a:ext cx="534672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word is selected and it is repeatedly written above the 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using the keyword “hold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47960" y="3406680"/>
            <a:ext cx="272160" cy="278280"/>
            <a:chOff x="1047960" y="34066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05228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79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14720" y="3406680"/>
            <a:ext cx="272160" cy="278280"/>
            <a:chOff x="1314720" y="34066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319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14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581480" y="3406680"/>
            <a:ext cx="272160" cy="278280"/>
            <a:chOff x="1581480" y="3406680"/>
            <a:chExt cx="272160" cy="278280"/>
          </a:xfrm>
        </p:grpSpPr>
        <p:sp>
          <p:nvSpPr>
            <p:cNvPr id="128" name=""/>
            <p:cNvSpPr/>
            <p:nvPr/>
          </p:nvSpPr>
          <p:spPr>
            <a:xfrm>
              <a:off x="1585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1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48240" y="3406680"/>
            <a:ext cx="272160" cy="278280"/>
            <a:chOff x="1848240" y="3406680"/>
            <a:chExt cx="272160" cy="278280"/>
          </a:xfrm>
        </p:grpSpPr>
        <p:sp>
          <p:nvSpPr>
            <p:cNvPr id="131" name=""/>
            <p:cNvSpPr/>
            <p:nvPr/>
          </p:nvSpPr>
          <p:spPr>
            <a:xfrm>
              <a:off x="1852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8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105280" y="3406680"/>
            <a:ext cx="272160" cy="278280"/>
            <a:chOff x="2105280" y="3406680"/>
            <a:chExt cx="272160" cy="278280"/>
          </a:xfrm>
        </p:grpSpPr>
        <p:sp>
          <p:nvSpPr>
            <p:cNvPr id="134" name=""/>
            <p:cNvSpPr/>
            <p:nvPr/>
          </p:nvSpPr>
          <p:spPr>
            <a:xfrm>
              <a:off x="21096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052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372040" y="3406680"/>
            <a:ext cx="272160" cy="278280"/>
            <a:chOff x="2372040" y="3406680"/>
            <a:chExt cx="272160" cy="278280"/>
          </a:xfrm>
        </p:grpSpPr>
        <p:sp>
          <p:nvSpPr>
            <p:cNvPr id="137" name=""/>
            <p:cNvSpPr/>
            <p:nvPr/>
          </p:nvSpPr>
          <p:spPr>
            <a:xfrm>
              <a:off x="23763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720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638800" y="3406680"/>
            <a:ext cx="272160" cy="278280"/>
            <a:chOff x="2638800" y="3406680"/>
            <a:chExt cx="272160" cy="278280"/>
          </a:xfrm>
        </p:grpSpPr>
        <p:sp>
          <p:nvSpPr>
            <p:cNvPr id="140" name=""/>
            <p:cNvSpPr/>
            <p:nvPr/>
          </p:nvSpPr>
          <p:spPr>
            <a:xfrm>
              <a:off x="26431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88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905560" y="3406680"/>
            <a:ext cx="272160" cy="278280"/>
            <a:chOff x="2905560" y="3406680"/>
            <a:chExt cx="272160" cy="278280"/>
          </a:xfrm>
        </p:grpSpPr>
        <p:sp>
          <p:nvSpPr>
            <p:cNvPr id="143" name=""/>
            <p:cNvSpPr/>
            <p:nvPr/>
          </p:nvSpPr>
          <p:spPr>
            <a:xfrm>
              <a:off x="29098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055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172320" y="3406680"/>
            <a:ext cx="272160" cy="278280"/>
            <a:chOff x="3172320" y="3406680"/>
            <a:chExt cx="272160" cy="278280"/>
          </a:xfrm>
        </p:grpSpPr>
        <p:sp>
          <p:nvSpPr>
            <p:cNvPr id="146" name=""/>
            <p:cNvSpPr/>
            <p:nvPr/>
          </p:nvSpPr>
          <p:spPr>
            <a:xfrm>
              <a:off x="31766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723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438720" y="3406680"/>
            <a:ext cx="272160" cy="278280"/>
            <a:chOff x="3438720" y="3406680"/>
            <a:chExt cx="272160" cy="278280"/>
          </a:xfrm>
        </p:grpSpPr>
        <p:sp>
          <p:nvSpPr>
            <p:cNvPr id="149" name=""/>
            <p:cNvSpPr/>
            <p:nvPr/>
          </p:nvSpPr>
          <p:spPr>
            <a:xfrm>
              <a:off x="3443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8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705480" y="3406680"/>
            <a:ext cx="272160" cy="278280"/>
            <a:chOff x="3705480" y="3406680"/>
            <a:chExt cx="272160" cy="278280"/>
          </a:xfrm>
        </p:grpSpPr>
        <p:sp>
          <p:nvSpPr>
            <p:cNvPr id="152" name=""/>
            <p:cNvSpPr/>
            <p:nvPr/>
          </p:nvSpPr>
          <p:spPr>
            <a:xfrm>
              <a:off x="3709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5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972240" y="3406680"/>
            <a:ext cx="272160" cy="278280"/>
            <a:chOff x="3972240" y="3406680"/>
            <a:chExt cx="272160" cy="278280"/>
          </a:xfrm>
        </p:grpSpPr>
        <p:sp>
          <p:nvSpPr>
            <p:cNvPr id="155" name=""/>
            <p:cNvSpPr/>
            <p:nvPr/>
          </p:nvSpPr>
          <p:spPr>
            <a:xfrm>
              <a:off x="3976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2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239000" y="3406680"/>
            <a:ext cx="272160" cy="278280"/>
            <a:chOff x="4239000" y="3406680"/>
            <a:chExt cx="272160" cy="278280"/>
          </a:xfrm>
        </p:grpSpPr>
        <p:sp>
          <p:nvSpPr>
            <p:cNvPr id="158" name=""/>
            <p:cNvSpPr/>
            <p:nvPr/>
          </p:nvSpPr>
          <p:spPr>
            <a:xfrm>
              <a:off x="42433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390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05760" y="3406680"/>
            <a:ext cx="272160" cy="278280"/>
            <a:chOff x="4505760" y="3406680"/>
            <a:chExt cx="272160" cy="278280"/>
          </a:xfrm>
        </p:grpSpPr>
        <p:sp>
          <p:nvSpPr>
            <p:cNvPr id="161" name=""/>
            <p:cNvSpPr/>
            <p:nvPr/>
          </p:nvSpPr>
          <p:spPr>
            <a:xfrm>
              <a:off x="45100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57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72520" y="3406680"/>
            <a:ext cx="272160" cy="278280"/>
            <a:chOff x="4772520" y="340668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47768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725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038920" y="3406680"/>
            <a:ext cx="272160" cy="278280"/>
            <a:chOff x="5038920" y="340668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50432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389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305680" y="3406680"/>
            <a:ext cx="272160" cy="278280"/>
            <a:chOff x="5305680" y="340668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53100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056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572440" y="3406680"/>
            <a:ext cx="272160" cy="278280"/>
            <a:chOff x="5572440" y="340668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55767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24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98440" y="33894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37440" y="3618000"/>
            <a:ext cx="5872320" cy="368280"/>
            <a:chOff x="-37440" y="3618000"/>
            <a:chExt cx="5872320" cy="368280"/>
          </a:xfrm>
        </p:grpSpPr>
        <p:sp>
          <p:nvSpPr>
            <p:cNvPr id="177" name=""/>
            <p:cNvSpPr/>
            <p:nvPr/>
          </p:nvSpPr>
          <p:spPr>
            <a:xfrm>
              <a:off x="-37440" y="361800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048320" y="3683160"/>
              <a:ext cx="4786560" cy="277560"/>
              <a:chOff x="1048320" y="3683160"/>
              <a:chExt cx="4786560" cy="2775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2076840" y="3683160"/>
                <a:ext cx="363600" cy="277560"/>
                <a:chOff x="2076840" y="3683160"/>
                <a:chExt cx="363600" cy="2775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90520" y="3683160"/>
                  <a:ext cx="276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076840" y="3684240"/>
                  <a:ext cx="36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362320" y="3683160"/>
                <a:ext cx="272160" cy="277560"/>
                <a:chOff x="2362320" y="3683160"/>
                <a:chExt cx="272160" cy="2775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37528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36232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629080" y="3683160"/>
                <a:ext cx="272160" cy="277560"/>
                <a:chOff x="2629080" y="3683160"/>
                <a:chExt cx="272160" cy="2775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64204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2908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895840" y="3683160"/>
                <a:ext cx="272160" cy="277560"/>
                <a:chOff x="2895840" y="3683160"/>
                <a:chExt cx="272160" cy="2775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9088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8958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162600" y="3683160"/>
                <a:ext cx="2672280" cy="277560"/>
                <a:chOff x="3162600" y="3683160"/>
                <a:chExt cx="2672280" cy="2775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3162600" y="3683160"/>
                  <a:ext cx="272160" cy="277560"/>
                  <a:chOff x="3162600" y="3683160"/>
                  <a:chExt cx="272160" cy="2775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31755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626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3695760" y="3683160"/>
                  <a:ext cx="272160" cy="277560"/>
                  <a:chOff x="3695760" y="3683160"/>
                  <a:chExt cx="272160" cy="2775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7087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6957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3429360" y="3683160"/>
                  <a:ext cx="272160" cy="277560"/>
                  <a:chOff x="3429360" y="3683160"/>
                  <a:chExt cx="272160" cy="2775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34419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4293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4229280" y="3683160"/>
                  <a:ext cx="272160" cy="277560"/>
                  <a:chOff x="4229280" y="3683160"/>
                  <a:chExt cx="272160" cy="27756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42422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2292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3962520" y="3683160"/>
                  <a:ext cx="272160" cy="277560"/>
                  <a:chOff x="3962520" y="3683160"/>
                  <a:chExt cx="272160" cy="2775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9754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9625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4762800" y="3683160"/>
                  <a:ext cx="272160" cy="277560"/>
                  <a:chOff x="4762800" y="3683160"/>
                  <a:chExt cx="272160" cy="2775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47757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7628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4496040" y="3683160"/>
                  <a:ext cx="272160" cy="277560"/>
                  <a:chOff x="4496040" y="3683160"/>
                  <a:chExt cx="272160" cy="27756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450900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49604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5295960" y="3683160"/>
                  <a:ext cx="272160" cy="277560"/>
                  <a:chOff x="5295960" y="3683160"/>
                  <a:chExt cx="272160" cy="27756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53089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2959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5029560" y="3683160"/>
                  <a:ext cx="272160" cy="277560"/>
                  <a:chOff x="5029560" y="3683160"/>
                  <a:chExt cx="272160" cy="2775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50421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50295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5562720" y="3683160"/>
                  <a:ext cx="272160" cy="277560"/>
                  <a:chOff x="5562720" y="3683160"/>
                  <a:chExt cx="272160" cy="2775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55756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5627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1819440" y="3683160"/>
                <a:ext cx="272160" cy="277560"/>
                <a:chOff x="1819440" y="3683160"/>
                <a:chExt cx="272160" cy="2775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8324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8194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048320" y="3683160"/>
                <a:ext cx="805320" cy="277560"/>
                <a:chOff x="1048320" y="3683160"/>
                <a:chExt cx="805320" cy="2775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1048320" y="3683160"/>
                  <a:ext cx="272160" cy="277560"/>
                  <a:chOff x="1048320" y="3683160"/>
                  <a:chExt cx="272160" cy="277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06092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0483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315080" y="3683160"/>
                  <a:ext cx="272160" cy="277560"/>
                  <a:chOff x="1315080" y="3683160"/>
                  <a:chExt cx="272160" cy="2775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132768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13150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1581480" y="3683160"/>
                  <a:ext cx="272160" cy="277560"/>
                  <a:chOff x="1581480" y="3683160"/>
                  <a:chExt cx="272160" cy="277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15944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15814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35" name=""/>
          <p:cNvGrpSpPr/>
          <p:nvPr/>
        </p:nvGrpSpPr>
        <p:grpSpPr>
          <a:xfrm>
            <a:off x="6246720" y="2035080"/>
            <a:ext cx="2743200" cy="4172040"/>
            <a:chOff x="6246720" y="2035080"/>
            <a:chExt cx="2743200" cy="4172040"/>
          </a:xfrm>
        </p:grpSpPr>
        <p:sp>
          <p:nvSpPr>
            <p:cNvPr id="236" name=""/>
            <p:cNvSpPr/>
            <p:nvPr/>
          </p:nvSpPr>
          <p:spPr>
            <a:xfrm>
              <a:off x="6246720" y="2035080"/>
              <a:ext cx="2743200" cy="417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3400" y="2082600"/>
              <a:ext cx="2649600" cy="41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 b c d e f g h i 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057680" y="3949560"/>
            <a:ext cx="272160" cy="278280"/>
            <a:chOff x="1057680" y="3949560"/>
            <a:chExt cx="272160" cy="278280"/>
          </a:xfrm>
        </p:grpSpPr>
        <p:sp>
          <p:nvSpPr>
            <p:cNvPr id="239" name=""/>
            <p:cNvSpPr/>
            <p:nvPr/>
          </p:nvSpPr>
          <p:spPr>
            <a:xfrm>
              <a:off x="1062000" y="39495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5768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-133560" y="388476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70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23240" y="2073240"/>
            <a:ext cx="190440" cy="4086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13320" y="5788080"/>
            <a:ext cx="2571840" cy="181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360440" y="4111200"/>
            <a:ext cx="6600960" cy="1724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314720" y="3949560"/>
            <a:ext cx="272160" cy="278280"/>
            <a:chOff x="1314720" y="3949560"/>
            <a:chExt cx="272160" cy="278280"/>
          </a:xfrm>
        </p:grpSpPr>
        <p:sp>
          <p:nvSpPr>
            <p:cNvPr id="247" name=""/>
            <p:cNvSpPr/>
            <p:nvPr/>
          </p:nvSpPr>
          <p:spPr>
            <a:xfrm>
              <a:off x="131904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1472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417680" y="3139920"/>
            <a:ext cx="0" cy="266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0352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9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90840" y="3949560"/>
            <a:ext cx="272160" cy="278280"/>
            <a:chOff x="1590840" y="3949560"/>
            <a:chExt cx="272160" cy="278280"/>
          </a:xfrm>
        </p:grpSpPr>
        <p:sp>
          <p:nvSpPr>
            <p:cNvPr id="253" name=""/>
            <p:cNvSpPr/>
            <p:nvPr/>
          </p:nvSpPr>
          <p:spPr>
            <a:xfrm>
              <a:off x="159516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9084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180200" y="2063880"/>
            <a:ext cx="190440" cy="4095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13320" y="5607000"/>
            <a:ext cx="2562480" cy="190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103120" y="4149720"/>
            <a:ext cx="5095800" cy="15336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848240" y="3949560"/>
            <a:ext cx="272160" cy="277920"/>
            <a:chOff x="1848240" y="3949560"/>
            <a:chExt cx="272160" cy="277920"/>
          </a:xfrm>
        </p:grpSpPr>
        <p:sp>
          <p:nvSpPr>
            <p:cNvPr id="259" name=""/>
            <p:cNvSpPr/>
            <p:nvPr/>
          </p:nvSpPr>
          <p:spPr>
            <a:xfrm>
              <a:off x="1852200" y="3949560"/>
              <a:ext cx="239040" cy="257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48240" y="3951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086560" y="3949560"/>
            <a:ext cx="3748680" cy="278280"/>
            <a:chOff x="2086560" y="3949560"/>
            <a:chExt cx="3748680" cy="278280"/>
          </a:xfrm>
        </p:grpSpPr>
        <p:grpSp>
          <p:nvGrpSpPr>
            <p:cNvPr id="262" name=""/>
            <p:cNvGrpSpPr/>
            <p:nvPr/>
          </p:nvGrpSpPr>
          <p:grpSpPr>
            <a:xfrm>
              <a:off x="5563080" y="3949560"/>
              <a:ext cx="272160" cy="278280"/>
              <a:chOff x="5563080" y="3949560"/>
              <a:chExt cx="272160" cy="278280"/>
            </a:xfrm>
          </p:grpSpPr>
          <p:sp>
            <p:nvSpPr>
              <p:cNvPr id="263" name=""/>
              <p:cNvSpPr/>
              <p:nvPr/>
            </p:nvSpPr>
            <p:spPr>
              <a:xfrm>
                <a:off x="55674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630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895840" y="3949560"/>
              <a:ext cx="272160" cy="278280"/>
              <a:chOff x="2895840" y="3949560"/>
              <a:chExt cx="272160" cy="278280"/>
            </a:xfrm>
          </p:grpSpPr>
          <p:sp>
            <p:nvSpPr>
              <p:cNvPr id="266" name=""/>
              <p:cNvSpPr/>
              <p:nvPr/>
            </p:nvSpPr>
            <p:spPr>
              <a:xfrm>
                <a:off x="29001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958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619720" y="3949560"/>
              <a:ext cx="272160" cy="278280"/>
              <a:chOff x="2619720" y="3949560"/>
              <a:chExt cx="272160" cy="278280"/>
            </a:xfrm>
          </p:grpSpPr>
          <p:sp>
            <p:nvSpPr>
              <p:cNvPr id="269" name=""/>
              <p:cNvSpPr/>
              <p:nvPr/>
            </p:nvSpPr>
            <p:spPr>
              <a:xfrm>
                <a:off x="26240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197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362680" y="3949560"/>
              <a:ext cx="272160" cy="278280"/>
              <a:chOff x="2362680" y="3949560"/>
              <a:chExt cx="272160" cy="278280"/>
            </a:xfrm>
          </p:grpSpPr>
          <p:sp>
            <p:nvSpPr>
              <p:cNvPr id="272" name=""/>
              <p:cNvSpPr/>
              <p:nvPr/>
            </p:nvSpPr>
            <p:spPr>
              <a:xfrm>
                <a:off x="2367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62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086560" y="3949560"/>
              <a:ext cx="272160" cy="278280"/>
              <a:chOff x="2086560" y="3949560"/>
              <a:chExt cx="272160" cy="278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0908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86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029560" y="3949560"/>
              <a:ext cx="272160" cy="278280"/>
              <a:chOff x="5029560" y="3949560"/>
              <a:chExt cx="272160" cy="278280"/>
            </a:xfrm>
          </p:grpSpPr>
          <p:sp>
            <p:nvSpPr>
              <p:cNvPr id="278" name=""/>
              <p:cNvSpPr/>
              <p:nvPr/>
            </p:nvSpPr>
            <p:spPr>
              <a:xfrm>
                <a:off x="50338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29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753440" y="3949560"/>
              <a:ext cx="272160" cy="278280"/>
              <a:chOff x="4753440" y="3949560"/>
              <a:chExt cx="272160" cy="278280"/>
            </a:xfrm>
          </p:grpSpPr>
          <p:sp>
            <p:nvSpPr>
              <p:cNvPr id="281" name=""/>
              <p:cNvSpPr/>
              <p:nvPr/>
            </p:nvSpPr>
            <p:spPr>
              <a:xfrm>
                <a:off x="47577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534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486680" y="3949560"/>
              <a:ext cx="272160" cy="278280"/>
              <a:chOff x="4486680" y="3949560"/>
              <a:chExt cx="27216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4491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86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219920" y="3949560"/>
              <a:ext cx="272160" cy="278280"/>
              <a:chOff x="4219920" y="3949560"/>
              <a:chExt cx="27216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42242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199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962880" y="3949560"/>
              <a:ext cx="272160" cy="278280"/>
              <a:chOff x="3962880" y="3949560"/>
              <a:chExt cx="27216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39672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628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86760" y="3949560"/>
              <a:ext cx="272160" cy="278280"/>
              <a:chOff x="3686760" y="3949560"/>
              <a:chExt cx="27216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36910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6867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429360" y="3949560"/>
              <a:ext cx="272160" cy="278280"/>
              <a:chOff x="3429360" y="3949560"/>
              <a:chExt cx="27216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4336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93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162600" y="3949560"/>
              <a:ext cx="272160" cy="278280"/>
              <a:chOff x="3162600" y="3949560"/>
              <a:chExt cx="272160" cy="278280"/>
            </a:xfrm>
          </p:grpSpPr>
          <p:sp>
            <p:nvSpPr>
              <p:cNvPr id="299" name=""/>
              <p:cNvSpPr/>
              <p:nvPr/>
            </p:nvSpPr>
            <p:spPr>
              <a:xfrm>
                <a:off x="316692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260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296320" y="3949560"/>
              <a:ext cx="272160" cy="278280"/>
              <a:chOff x="5296320" y="3949560"/>
              <a:chExt cx="272160" cy="278280"/>
            </a:xfrm>
          </p:grpSpPr>
          <p:sp>
            <p:nvSpPr>
              <p:cNvPr id="302" name=""/>
              <p:cNvSpPr/>
              <p:nvPr/>
            </p:nvSpPr>
            <p:spPr>
              <a:xfrm>
                <a:off x="53006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963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D909-7762-42AD-BB58-30C2861901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Vigenere from the Ciphers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540160" y="3411360"/>
            <a:ext cx="4387680" cy="207972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4626000" y="4024440"/>
            <a:ext cx="1236600" cy="676080"/>
            <a:chOff x="4626000" y="4024440"/>
            <a:chExt cx="1236600" cy="676080"/>
          </a:xfrm>
        </p:grpSpPr>
        <p:sp>
          <p:nvSpPr>
            <p:cNvPr id="308" name=""/>
            <p:cNvSpPr/>
            <p:nvPr/>
          </p:nvSpPr>
          <p:spPr>
            <a:xfrm>
              <a:off x="4626000" y="4024440"/>
              <a:ext cx="1236600" cy="676080"/>
            </a:xfrm>
            <a:prstGeom prst="wedgeRoundRectCallout">
              <a:avLst>
                <a:gd name="adj1" fmla="val -43708"/>
                <a:gd name="adj2" fmla="val 65023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41200" y="403380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5FB1-30E2-414A-B0CB-0AC397FBC4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1T02:20:57Z</dcterms:modified>
  <cp:revision>57</cp:revision>
  <dc:subject/>
  <dc:title>CAP Cryptographic Analysis Program</dc:title>
</cp:coreProperties>
</file>